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DBE-F354-405E-ACBF-FABDCFF6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A5F-4FFB-4A3E-A57D-B97C2B76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84D4F-3E4F-4950-95A9-4A054A8C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108BE-2850-486D-A1BF-28DAA8C1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0CB2C-5397-49C8-A34E-D1A47C49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62145-1E3C-4575-B53E-8A090C40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08398-156D-4DB8-BE78-635B0AE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DDF0D-3A5F-4868-ACE8-D5B2573C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5B46A-8A03-483E-8A3D-8819FEDA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E545-CF50-4AF0-9C9E-1CBA775A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3C2CB-17A8-4D46-82C6-5F33F1DA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A2A4B-1CCF-4722-B4A1-E191E3E7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A51-D9C0-4266-8ED4-3AB808E3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3257D-D3CC-4475-BEA6-3364D11E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CB11D-1E86-41B4-B49F-49CC3828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9A40E-7BD1-41D5-B5E4-A414C6E5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B7551-0CDE-4144-90A6-8156C8BF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2A836-284D-4254-ADAD-97F17E0C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BFBF0-B5CE-4664-90B4-C371D45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813C5-19C0-419F-8735-AF2751E3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3119E-580F-451C-93F0-B7168880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FC014-0745-467D-94DC-E14B1799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86179-2720-4BB1-8B1C-21044E76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FD4-394E-4CE8-BE38-B9EF8C3E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6A609-361B-4DAB-8CFA-4C6B8D18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9DC7A-4F0B-4E8F-8666-7C5FD6F8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95D7B-79BB-4E3F-BFD8-AFFC3F47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72AE7-B127-44C3-B279-C3F270D6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A887-A8A4-484B-A388-5AA7135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7DB8B-65BC-4509-8D5B-F6129E9B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C2A06-832D-4427-BF34-DAA41BA2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CDDAC-E49F-45A1-A68A-FDDA344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E145-7BD6-47A2-BEC5-330565E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E6B81-060F-4CED-8CF9-F2421A60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A55D-BAEC-4C92-83FD-3EA95414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FA66E-6D65-4338-9FAD-CC67F7FE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5D31F-E9CD-4BE2-A5B3-593F1F94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FD990-F104-4C92-AF05-CB254779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47E43-A77B-4DCD-9B48-C3ECC1D3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4AFC1-31E8-43AE-B879-D0A1082E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0BF5C-5C34-4099-953E-570D8D6C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C3542-7E53-4C02-85D8-F0E0120D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76097-4C90-42CE-A1FB-F01F4019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18867-AF96-4AA2-A038-64BD56DA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A6F01-DA58-4969-AF68-461DAAC8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1E91-2E72-41CB-8F94-509FDF7A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98574-2C04-478A-92F5-5F97643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7A0EE-D2BF-4C23-AA46-99934D5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8B767-8232-404D-9E00-11938658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1A8B4-4DC1-41FA-85A4-A5C56460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691E1-76B4-4433-B5C2-B6788F2A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F7470-B67F-4864-A629-00863726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D57FB-E4A3-42B2-804F-7C895533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9C498-72F4-4BD3-B9F2-E59FDD4F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2CDBA-5BB0-4356-9EE6-B2DE2CD7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D903D-21A9-46CB-9DB1-A200F958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D42A-9C1E-4B21-9312-BD602AB0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34262-360B-4E3F-B54F-F5E257D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FC6DD-4C2D-4444-BA9F-94D23A7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01F71-6314-4727-9920-3EBD43B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ADC87-D031-4C52-BA4F-6030999F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2B322-F99E-4539-B5F0-4CCDFBAF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5FDBE-54E2-447F-8311-C05BF79B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782BB-1DB3-40E4-B11B-31E951AD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7B560-6176-415E-A5DD-493F645E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D810E-B12D-421A-9425-B9F61DD9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C54D5-E098-47B9-9CBE-2E056BC5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BD2E-1F27-4AE8-B685-6CE5FCB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0AA56-E06D-4665-8E08-F8FEC898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F77D3-0B06-4227-B84B-523C32B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8BA00-99DB-424E-8057-19B8D6FC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18754-E123-44C4-A903-41462887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960E6-3993-4078-ACF6-05EADA6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0E5E4-505A-42FE-B756-58C52B1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3BD4F-306C-44D2-ACC3-DA770A50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50451-74B0-49D0-94A9-259C4A9A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BAF32-F241-4029-8398-34F40A4C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9DD7C-4B7D-4859-8C19-E1FF4EE7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B4A8-C07C-45FF-81A6-A7419774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CA75A-21FE-4560-BF73-EAAE0CE3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8CCC5-D8AA-408D-B53E-AB4D7429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AD1CE-5AB9-4D9A-BF19-3110650B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2DCDA-B68B-4517-B639-F2F898A5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68454-7F43-4739-855A-8B46B85F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5F0BE-2553-4B43-821F-0CE7824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A7E0B-52D7-41F5-B8AF-04F78506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ABC20-94D7-431D-A881-52DFB991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08871-690E-43D9-B10A-CF5B8816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B6F68-6DD7-4B89-9DF5-BA72AE9A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4983-DAC2-4B9A-B2C8-F91286B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931FB-314D-48CA-9F43-FC61499A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56134-2359-441B-8375-D13A262E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DB111-1F6F-4FAE-BC61-C6489DB4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ECED4-A7C7-4C35-BE93-2D9F3732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C9BA8-161A-4EAB-84CD-52F4CB85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1707D-6247-40FB-B73E-D3376ACE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D743F-D2B0-4DEC-8261-99818FFD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2E1F7-72C1-42BB-9650-9B5A028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C8260-3A98-45CC-9491-3CF6DC6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474CF-9BDC-427E-94E8-DD26AAB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B06F-1394-4D4D-A750-DC0C8C9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AD412-C8D4-41ED-9226-D318032B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CEB21-E8B7-413C-87A9-903AAFD2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AF0AD-90B3-415C-8DEC-8E6B8022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C331B-3531-46ED-A50F-050E9A4E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12BA0F-1C06-4DD3-9D17-B4714941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55CA3-6567-4949-8B64-0FC807FC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9810B-ADFB-48B7-9475-BFB10381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AFE98-18F5-44C1-B315-FBF880D3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D5E20-412B-47C7-A705-87C48B37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7E5C9-56B4-467D-A136-FD02EE8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65E-F01C-4585-A549-E35BAC6A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86BB-6205-49A4-BF3A-24F0C8C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89BAD-AA3D-49B7-B362-2BCF15BE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FF23C-D7A6-42AC-8B98-A18A8A8A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B675E-5C50-4BBC-AB02-BCB3C6F1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90178-F377-48A8-84E8-AAEA60D9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89F98-39B9-4456-9AD5-4A415E54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3DDCB-FD9D-4834-8B71-8DE2EF7D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88370-7699-4494-9B7A-F8726E2F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5654D-B93A-428C-9BB5-9471129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54279-3F5A-493A-BE50-6DA6BF72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DB71C-1FDF-452D-8BDF-87B9587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3FD3-BD76-4D2D-ADC1-B0B55323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C3461-DFCB-48D0-9785-C0BED153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884F2-0B0D-434F-A7B7-7E644D0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3B074-07A5-4A43-9B6B-31CEB02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E6475-0CF2-45F9-B525-246FE81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AF1ED-E04F-4142-9677-56B80C7B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5A21F-20A1-4756-B355-34399678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0E65D-B840-4716-975C-778DB09B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2FA35-DD9C-41B1-A257-F939ACD8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B5B22-54DC-4834-998C-8B2D8B56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D70DA-D09F-41B7-91AF-DC1210E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B12E-E07C-4E2A-ADBE-6C09581D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78D51-F147-4E46-B5A2-5B0B677A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A503E-EC5A-410D-A036-B627878D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68434-BDD5-4400-9E18-4723A9AA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42721-08CD-490B-924C-2E1F674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973F7-74D1-427B-8443-E952F91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23713-F357-4A3C-9A32-023976BE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97327-35C3-4FBE-9CC4-837A65F5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7D133-57B4-4C4E-9773-F103A343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3A5D3-A812-493C-AE71-C613C3D8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D72E3-B588-41E4-BFDA-25B5A43A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01A3-4238-463A-8EF8-53BFD7A0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79755-11BD-4376-BC82-DE64FBF6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3E9F8-6EC0-4159-AADA-03ADFBD9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60746-F605-43ED-A63E-E243511E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7F7266-260E-4388-99FF-428462B7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665F9-2180-4AC4-92F5-0CF9D9E2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8F9DB-BEBC-4EA4-B746-161193AF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DA1D7-913B-4532-9256-06AFA0F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8009C1-74DE-4B14-A7CA-097889BD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261A7-639D-440E-B8A3-285DEC24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E4692-1A0A-476E-A59B-5009BD36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ED98-9A0D-47B1-A644-3C138CA5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A864B-F9BC-41F9-A00B-34C37723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74FA3-3384-4DFB-800C-69C8190F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D4F98-AE83-45B4-8860-4B899E3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C1C257-711A-47C6-90D7-77C67178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961B5-C195-4A51-A8A9-AC9BBB74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EE079-D0E1-4BAC-8DFF-DF683F37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E6785-B1B5-4BAB-A2D5-09479AB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17D09D-E42A-479B-B127-5F518AC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47DF1-9E8C-41D8-8D90-5F9F161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F2A2C8-91C5-4DD2-A56F-619C46E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BD02-A6E5-464B-BB30-3FC1C932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E6BAF-7F38-4814-8CD4-CFFAF08B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65E00-7269-4AC8-8C13-2A66045A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C9AE51-4AA6-4AF2-B9CA-69E6B6AE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88E6-919D-45C2-8E72-A669E0CC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7BC2-52BD-4705-86AE-F56BF543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F8AC-46FA-43EE-9E87-B1E3ACD9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57EA-A863-49A2-92FD-0065AAC4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B92-A845-4EB2-B963-95A01D6B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8844-473F-4C28-AFBE-3E00FF1B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0896-FDFB-4984-9974-9B3C0248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7AE3-FFAC-4AA2-A22F-787C7FEF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FEEE-0A86-42EA-8C60-C747C30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C3CD-9073-4F53-B924-63A61EBE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420A-2A6F-4433-AD5B-2E50BF83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3C59-8851-4E31-80EF-19816ED4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2E43-347C-47D9-9131-605634D1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95BF-432F-4250-B4D6-72B4669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435B6-D8CF-4940-8D7B-C7F48642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377-FD3E-4B1D-9A2C-3CAC133A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AFBB-1688-484A-BB6A-FDD8B42A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CA75E-28B1-439F-A5F7-8F24D079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910D8-97DE-4945-B0FF-1F56914B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5E35D-75DB-4B5F-8419-605A641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C78E-4BAA-4F23-B522-95C83FF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DDAC-224D-45F7-A31E-FB1B73A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CCB5-ADFD-4019-BFCD-F61EF6C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28021-3B03-4457-B0DB-3FEC27FF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0C08-FD1E-49CA-B3E8-1CD7837D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AEF1-ABBE-4F93-9416-684C305C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D0B-78E8-468A-9793-3763E7D8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1E8F5-83AE-4FC0-9FC7-52917CCA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630D-8B82-436C-913F-9C4EAB73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7BD5C-2793-4052-8D72-6FB25FB6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33CC-2379-4555-A35F-04DCF9FB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35FCB-940D-4855-850E-8530320E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A0DCD-1880-4C17-950A-A940D54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4C82D-4B00-4E97-8701-CE4EA206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E922-8EEF-4183-82FE-A129C31D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9074-1CD9-4EFF-B636-21C8500D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75923-3551-4D14-B40B-744E3D4B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E3B-9057-4C83-A876-A15DB72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C0CC-BB9C-4FAF-B44E-1DC1ACAE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B0EC8-1319-49D1-8F47-FD975624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AAF56-AEB1-452B-9A33-E6A38249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9752C-9BDC-477B-9CF8-CBBDA541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E018C-2896-429D-AE9C-6579A047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BC3F3-FF5A-40F1-A2B9-3403375B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AD2A-96DE-465C-90AA-76D833A0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1F076-5EDB-4717-B2CA-2CAA2E45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3268-A673-4EA2-BF05-C2F5DEA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29D84-66C2-4782-B5CC-7BFC239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45A-592C-46AC-BE16-ACAF4D1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9DA27-06E6-43ED-BB06-0A2A844B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1CBA1-B7FC-4E36-A042-B336BE96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F51B-7BED-40BA-A4B7-6FA58D2C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5A7D0-0BBE-4395-A2E3-D1A664A6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62EEB-60DD-4FBC-AA94-6F03A1CB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6792C-37DC-4D58-A478-AFD62019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19202-9480-4726-A222-C3D6DF3E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BEA28-5E32-4354-A889-52E1F1DD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37381-EEDA-4A1F-958E-BF7B7F22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86E8E-FD55-43FE-84A9-97131AFB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4D9-C8AD-4281-9635-9D3D9A0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6A2C0-685B-409E-92E7-2A51D1D2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0907E-DE09-448A-9837-428528DE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9D577-2A5C-4AB6-A148-A631C6B8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85A3C-C5EF-4384-BFF7-0B9C2690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6A510-BEED-406F-BA9B-00F0E268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900D-76BE-4B82-A15A-46EF8F45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F349B-4EB1-4446-8D2B-5F31C039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5615-65D4-46ED-BAC3-972D3EAD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CB74-3092-4CF2-A218-E8CE6CB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6C0F-2EDA-4060-A09B-6BF22D43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8AD-7085-4B5F-B416-07CD6ED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83BCC-954A-4618-B6DA-493126C3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E9286-43CD-40CD-854A-C3263B9C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8DEE8-F747-4E7E-A4A2-13CFAE0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D75E1-DD4E-41F2-ACBC-DDAEF29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6224E-8344-4E31-8C71-7019ECE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B65AC-CF33-4A30-A947-A14F4B97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E5FAF-B294-47BC-AE5A-65EA6EE6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C83E0-3E26-4B1A-A3AF-601BD73F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BBAC4-2316-447F-A036-367FD42D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5C143-95A7-4BB6-BD75-A26B7BFE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F3B3-1BA8-404E-8F60-67B5F0AAA1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B104-E193-414C-8D84-DCB8873201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5B89-3B60-4C70-8D67-CD0BC7D2A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D961-2BA9-481D-8CC2-85443E2C61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E107-28E3-45E7-9692-1F7AAF7EB4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A400-317C-4A5B-B7D9-7B017E01E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3ECB-3BDC-4DDA-B63A-5E63DA6B7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1E35-7825-4A6B-B388-323E6A1EF0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58F9-15BC-4F35-B367-DF55B4DD7C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ED5-95BD-4CE9-B756-60DC0062FA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6EE-8248-4FC0-94DB-3BD5DF679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5063-5780-4876-8DC2-77243DF75A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6BCB-F3B6-491D-8423-24CB645CE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D99-6429-4409-AEF6-B1923AC35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3002-4901-4D46-A290-333592D3B0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0301-540B-4B1F-9140-5E33E49AF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2FDE-0A98-4E99-BEB5-BFBC6212E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608F-06AE-4EF8-8101-43F1E0473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17D1-6A56-4BE1-A2A4-B4DC07423F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A8B-43D0-4C70-8D51-D3E4C9CCB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75E3-C99F-4593-AAD7-74D622A50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167A-E57A-4F12-9053-2A5DED86FB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841D-A626-44F9-A1E1-C412B2ECE2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BAAF-538C-48F0-95BB-25B8C3E125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DE86-FFF9-49AA-966A-442E379FFD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4BF3-8A21-4953-8DFD-DC4EE311A8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098-2B56-4FFD-BB88-FCECD57E7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2AEE-A368-4EBA-A63B-E94FF8FF63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B0B1-86B2-4877-B8CB-B637D595E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9582-8704-4682-B821-2B4A6463B0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4F50-46A9-4D88-B394-B162C0DBBF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1369-F87F-4679-82F5-0ABCD7A78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72DA-C73E-4097-829D-A47259FB8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302-1EE6-4BC5-B935-3597C8579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F187-9989-4D45-BBCE-FF2DD20000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66F-9546-4B17-8DA9-1A1326716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683E-1587-4012-A514-A7395176AF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7266-1BFA-4A8C-A8CC-E88F5BA376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AEB0-8BF2-42D6-BDE2-B6D38432C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0F5A-6886-4664-A51C-55135ADADC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085760" y="2709720"/>
            <a:ext cx="697248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61800" y="1600200"/>
            <a:ext cx="8420400" cy="3657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084720" y="306864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1066680" y="3070080"/>
            <a:ext cx="4038840" cy="73368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31" descr=""/>
          <p:cNvPicPr/>
          <p:nvPr/>
        </p:nvPicPr>
        <p:blipFill>
          <a:blip r:embed="rId4"/>
          <a:stretch/>
        </p:blipFill>
        <p:spPr>
          <a:xfrm>
            <a:off x="1000080" y="4290840"/>
            <a:ext cx="4105440" cy="101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812000" y="3068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199200" y="3457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812000" y="3457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84720" y="441792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812000" y="43941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199200" y="47973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812000" y="480708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638280" y="1833480"/>
            <a:ext cx="7867440" cy="3191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364000" y="226692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093080" y="2276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301840" y="32418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3670200" y="32511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1450800" y="4014720"/>
            <a:ext cx="754200" cy="513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2517840" y="4014720"/>
            <a:ext cx="753840" cy="513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3564000" y="4014720"/>
            <a:ext cx="753840" cy="513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4610160" y="4014720"/>
            <a:ext cx="753840" cy="513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0"/>
          <a:stretch/>
        </p:blipFill>
        <p:spPr>
          <a:xfrm>
            <a:off x="5508720" y="4014720"/>
            <a:ext cx="753840" cy="513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1"/>
          <a:stretch/>
        </p:blipFill>
        <p:spPr>
          <a:xfrm>
            <a:off x="2411280" y="468144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2"/>
          <a:stretch/>
        </p:blipFill>
        <p:spPr>
          <a:xfrm>
            <a:off x="4140360" y="4681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3"/>
          <a:stretch/>
        </p:blipFill>
        <p:spPr>
          <a:xfrm>
            <a:off x="6156360" y="4681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4"/>
          <a:stretch/>
        </p:blipFill>
        <p:spPr>
          <a:xfrm>
            <a:off x="7515360" y="469116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8373" descr=""/>
          <p:cNvPicPr/>
          <p:nvPr/>
        </p:nvPicPr>
        <p:blipFill>
          <a:blip r:embed="rId1"/>
          <a:stretch/>
        </p:blipFill>
        <p:spPr>
          <a:xfrm>
            <a:off x="85680" y="1147680"/>
            <a:ext cx="8972640" cy="4562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176560" y="33577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7461360" y="33577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826920" y="370692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1116000" y="4086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1730520" y="40957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3106800" y="4086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3924360" y="408636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9"/>
          <a:stretch/>
        </p:blipFill>
        <p:spPr>
          <a:xfrm>
            <a:off x="5416560" y="494172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0"/>
          <a:stretch/>
        </p:blipFill>
        <p:spPr>
          <a:xfrm>
            <a:off x="7155000" y="494172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1"/>
          <a:stretch/>
        </p:blipFill>
        <p:spPr>
          <a:xfrm>
            <a:off x="4759200" y="532908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2"/>
          <a:stretch/>
        </p:blipFill>
        <p:spPr>
          <a:xfrm>
            <a:off x="6127920" y="533880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4:1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